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2F484-CF14-4C2C-B352-3F79B0170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Three – Interpret the results of the experiment using science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Identify and explain the important science concepts that relate to the experiment.  2. Relate these concepts to the experiment and the results.  3.  Relate this experiment to a real life sit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E3144-3B6B-4708-9611-6A2D38640C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BC1A8-CBA3-4730-AEC5-B0AF090A77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Insert” menu to add a digital photo, use shapes to create a diagram, or use the draw tool to draw a dia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32BAC-82FB-4460-9237-C93C6EC8D3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39DE5-0539-45ED-84FB-2A15EA46B4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One - Summarize the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nswer the question in your purpose using a strong opening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Define the relationship between the variables   3.  Use an appropriate measure of central tendency to describe the data.  4.  Describe the variation in the repeated trials using the range, IQR, or the five number summary.</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D720D-4540-49E6-A297-6F8BBAED2E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ragraph Two – Support or refute the hypothe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ell whether your hypothesis is supported or disproved.   2.  Give evidence from the data table to support your answer.  3.  Give evidence from the graph to support your 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057B-B547-400B-9A04-527DBCAB9D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11C3C-CD09-4573-8B3E-34DE4D0EF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1C8E9-18DA-4AA9-8895-5484EF415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5F674-F7F1-48CE-9EA6-A6D15CD90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38BE1-1378-44F0-8884-8EC5F37E5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5AE45-1709-484D-87FE-85A0DD989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5B9DD-C0DB-47B9-A7C3-335CDDF57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63FBE-7E5E-4635-852A-2120395DF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7D686-B700-40A8-9893-8092965C4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EA874-33A8-4B70-8AA3-E0C6446B4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BE6DA-F395-401C-B342-77F486D77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79904-E849-4846-9C00-BE6A6A547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906C7-9C77-472A-BF63-CF58EB730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62CA6-9AC4-4F74-8F99-8E33E18802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Volumes and Temperatures.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Alex, Rachel, Danae, and Jul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a:t>
            </a:r>
            <a:endParaRPr b="0" lang="en-US" sz="4400" spc="-1" strike="noStrike">
              <a:solidFill>
                <a:srgbClr val="000000"/>
              </a:solidFill>
              <a:latin typeface="Calibri"/>
            </a:endParaRPr>
          </a:p>
        </p:txBody>
      </p:sp>
      <p:sp>
        <p:nvSpPr>
          <p:cNvPr id="51" name=""/>
          <p:cNvSpPr txBox="1"/>
          <p:nvPr/>
        </p:nvSpPr>
        <p:spPr>
          <a:xfrm>
            <a:off x="533520" y="1447560"/>
            <a:ext cx="8229600" cy="1600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termine what happens to the temperature of water when different volumes at different temperatures mixed together.</a:t>
            </a:r>
            <a:endParaRPr b="0" lang="en-US" sz="3200" spc="-1" strike="noStrike">
              <a:solidFill>
                <a:srgbClr val="000000"/>
              </a:solidFill>
              <a:latin typeface="Calibri"/>
            </a:endParaRPr>
          </a:p>
        </p:txBody>
      </p:sp>
      <p:sp>
        <p:nvSpPr>
          <p:cNvPr id="52" name="Title 1"/>
          <p:cNvSpPr/>
          <p:nvPr/>
        </p:nvSpPr>
        <p:spPr>
          <a:xfrm>
            <a:off x="53352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pothesis</a:t>
            </a:r>
            <a:endParaRPr b="0" lang="en-US" sz="4400" spc="-1" strike="noStrike">
              <a:solidFill>
                <a:srgbClr val="000000"/>
              </a:solidFill>
              <a:latin typeface="Arial"/>
            </a:endParaRPr>
          </a:p>
        </p:txBody>
      </p:sp>
      <p:sp>
        <p:nvSpPr>
          <p:cNvPr id="53" name="Content Placeholder 2"/>
          <p:cNvSpPr/>
          <p:nvPr/>
        </p:nvSpPr>
        <p:spPr>
          <a:xfrm>
            <a:off x="533520" y="4800600"/>
            <a:ext cx="82296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cold temperature is the larger volume then when both temperatures are mixed together the total temperature will be coo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erimental Design</a:t>
            </a:r>
            <a:endParaRPr b="0" lang="en-US" sz="4400" spc="-1" strike="noStrike">
              <a:solidFill>
                <a:srgbClr val="000000"/>
              </a:solidFill>
              <a:latin typeface="Calibri"/>
            </a:endParaRPr>
          </a:p>
        </p:txBody>
      </p:sp>
      <p:sp>
        <p:nvSpPr>
          <p:cNvPr id="55" name=""/>
          <p:cNvSpPr txBox="1"/>
          <p:nvPr/>
        </p:nvSpPr>
        <p:spPr>
          <a:xfrm>
            <a:off x="457200" y="1143000"/>
            <a:ext cx="8229600" cy="4983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Variab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Variab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ants:</a:t>
            </a:r>
            <a:endParaRPr b="0" lang="en-US" sz="3200" spc="-1" strike="noStrike">
              <a:solidFill>
                <a:srgbClr val="000000"/>
              </a:solidFill>
              <a:latin typeface="Calibri"/>
            </a:endParaRPr>
          </a:p>
        </p:txBody>
      </p:sp>
      <p:graphicFrame>
        <p:nvGraphicFramePr>
          <p:cNvPr id="56" name=""/>
          <p:cNvGraphicFramePr/>
          <p:nvPr/>
        </p:nvGraphicFramePr>
        <p:xfrm>
          <a:off x="533520" y="2057400"/>
          <a:ext cx="8229600" cy="1676520"/>
        </p:xfrm>
        <a:graphic>
          <a:graphicData uri="http://schemas.openxmlformats.org/drawingml/2006/table">
            <a:tbl>
              <a:tblPr/>
              <a:tblGrid>
                <a:gridCol w="1371600"/>
                <a:gridCol w="1371600"/>
                <a:gridCol w="1371600"/>
                <a:gridCol w="1371600"/>
                <a:gridCol w="1371600"/>
                <a:gridCol w="1371600"/>
              </a:tblGrid>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ve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8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e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ram</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Table</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ph</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01:14:59Z</dcterms:created>
  <dc:creator>User</dc:creator>
  <dc:description/>
  <dc:language>en-US</dc:language>
  <cp:lastModifiedBy>User</cp:lastModifiedBy>
  <dcterms:modified xsi:type="dcterms:W3CDTF">2010-12-13T15:52:19Z</dcterms:modified>
  <cp:revision>5</cp:revision>
  <dc:subject/>
  <dc:title>Title:</dc:title>
</cp:coreProperties>
</file>